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072A-5C49-4BA7-A0F3-893D3626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5AD5-B0F1-4D41-8D13-0B77407B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F9BC8-296C-41B1-AC74-0CD40B58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CA40-F88C-46D1-8F6E-6A1E17D3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D164-0932-4CD6-B20E-F7FC5B78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79BB-CAC3-4D5A-B727-8B3D8F36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E4F0-7090-47A3-8506-90F29946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4699-03D9-4E79-A3D5-0DD26942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C40E-EF70-42CB-A1BE-34AF91D7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1CC3-216C-47F7-8477-24E79931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E2B6-3742-4EA5-8B0B-DCF6F3D4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1A41-F304-48A9-8798-4A147277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83D3-F330-4CC7-92EF-F0696531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36BD-7984-4A9D-A6F5-F6634D5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6295-DD28-4714-923C-44B79714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FAC1-8EC2-47A3-A5CF-CF56E06D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0BBC-AFBF-4BB4-BF71-BFF27FE3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C79C-9BA6-47DA-A4DE-40BD3368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0403-8CEC-4F91-A24E-615C1B46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7465F-A77D-48F1-9C9D-ED91D968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7AAE-95FD-4DE3-ACE5-ED83F356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B60F-DA9D-433E-B680-3428789F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2537-D64E-463B-B7A7-6F20AAFC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511B-66D8-428C-8165-3B0D5414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5B7C-D527-475E-8915-88619050BB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1853-6187-4024-A0F1-B2A5AF03DB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hotosynthesis and Cellular Respir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 for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sb1051f1"/>
          <p:cNvPicPr/>
          <p:nvPr/>
        </p:nvPicPr>
        <p:blipFill>
          <a:blip r:embed="rId1"/>
          <a:stretch/>
        </p:blipFill>
        <p:spPr>
          <a:xfrm>
            <a:off x="4876920" y="4114800"/>
            <a:ext cx="3124080" cy="22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gments absorb li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ddition to water and carbon dioxide, photosynthesis requires light and chlorophyll, a pigment molecule within chloropla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wo main types of chlorophyll are chlorophyll a and chlorophyll 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lorophyll absorbs blue-violet and red light very well. Green light is reflected by plant leaves, which is what gives them their green col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pigment"/>
          <p:cNvPicPr/>
          <p:nvPr/>
        </p:nvPicPr>
        <p:blipFill>
          <a:blip r:embed="rId1"/>
          <a:stretch/>
        </p:blipFill>
        <p:spPr>
          <a:xfrm>
            <a:off x="4952880" y="2133720"/>
            <a:ext cx="41767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ight absorption powers photosynthe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lorophyll absorbs blue-violet and red light very well. Green light is reflected by plant leaves, which is what gives them their green col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igh-energy electrons produced when chlorophyll absorbs light make photosynthesis 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absorspect"/>
          <p:cNvPicPr/>
          <p:nvPr/>
        </p:nvPicPr>
        <p:blipFill>
          <a:blip r:embed="rId1"/>
          <a:stretch/>
        </p:blipFill>
        <p:spPr>
          <a:xfrm>
            <a:off x="4876920" y="1981080"/>
            <a:ext cx="37386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llular Respi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4" descr="j0406522"/>
          <p:cNvPicPr/>
          <p:nvPr/>
        </p:nvPicPr>
        <p:blipFill>
          <a:blip r:embed="rId1"/>
          <a:stretch/>
        </p:blipFill>
        <p:spPr>
          <a:xfrm>
            <a:off x="1176480" y="1600200"/>
            <a:ext cx="679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ving things need energy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bodies have a lot of work to do every day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ving muscle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ing essential molecules, 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orting substances across cell membra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j0384940"/>
          <p:cNvPicPr/>
          <p:nvPr/>
        </p:nvPicPr>
        <p:blipFill>
          <a:blip r:embed="rId1"/>
          <a:stretch/>
        </p:blipFill>
        <p:spPr>
          <a:xfrm>
            <a:off x="4648320" y="2506680"/>
            <a:ext cx="40384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re do we get energ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od provides the energy living things need to grow and reprodu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od is the source of the material our cells use to build new molecu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j0384740"/>
          <p:cNvPicPr/>
          <p:nvPr/>
        </p:nvPicPr>
        <p:blipFill>
          <a:blip r:embed="rId1"/>
          <a:stretch/>
        </p:blipFill>
        <p:spPr>
          <a:xfrm>
            <a:off x="4648320" y="2274840"/>
            <a:ext cx="40384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ow much energy is present in foo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ite a lot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gram of the sugar glucos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when burned in the presence of oxygen, releases 3,811 calories of heat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alorie is the amount of energy needed to raise the temperature of 1 gram of water 1 degree Cels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j0202205"/>
          <p:cNvPicPr/>
          <p:nvPr/>
        </p:nvPicPr>
        <p:blipFill>
          <a:blip r:embed="rId1"/>
          <a:stretch/>
        </p:blipFill>
        <p:spPr>
          <a:xfrm>
            <a:off x="4838760" y="2637000"/>
            <a:ext cx="36576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is cellular respiration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ellular respiration is the process that releases energy by breaking down glucose and other food molecules in the presence of oxyge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98040" y="4495680"/>
            <a:ext cx="241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335268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101480" y="4495680"/>
            <a:ext cx="376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+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36160" y="5181480"/>
            <a:ext cx="30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gen + gluc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3276720" y="54100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3645000" y="510552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bon dioxide + water +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Where does cellular respiration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take place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ginning pathway of cellular respiration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lycoly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akes place in the cell cytoplas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wo remaining pathways—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rebs Cycl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lectr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anspor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take place inside the mitochondria of the cel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mito-em1"/>
          <p:cNvPicPr/>
          <p:nvPr/>
        </p:nvPicPr>
        <p:blipFill>
          <a:blip r:embed="rId1"/>
          <a:stretch/>
        </p:blipFill>
        <p:spPr>
          <a:xfrm>
            <a:off x="5000760" y="2438280"/>
            <a:ext cx="3333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happens if oxyge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s not availabl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lycoly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n followed by a different pathwa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bined process of this pathway and glycolysis is calle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rmen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rmen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leases energy from food molecules by producing ATP in the absence of oxyg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7" descr="j0386411"/>
          <p:cNvPicPr/>
          <p:nvPr/>
        </p:nvPicPr>
        <p:blipFill>
          <a:blip r:embed="rId1"/>
          <a:stretch/>
        </p:blipFill>
        <p:spPr>
          <a:xfrm>
            <a:off x="4838760" y="2374920"/>
            <a:ext cx="3657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ementary proc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tosynthesis is an important part of the carbon cyc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cesses of photosynthesis and cellular respiration are complementary processes, meaning they work together to benefit living 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5" descr="picture of carbon cycle"/>
          <p:cNvPicPr/>
          <p:nvPr/>
        </p:nvPicPr>
        <p:blipFill>
          <a:blip r:embed="rId1"/>
          <a:stretch/>
        </p:blipFill>
        <p:spPr>
          <a:xfrm>
            <a:off x="4572000" y="2209680"/>
            <a:ext cx="38386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ants and animals contribut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totrophs, such as plants, produce glucose using the carbon in carbon diox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autotrophs and heterotrophs, such as grasshoppers that eat plants, use those carbohydrates in cellular respi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ion, in turn, produces carbon diox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otosynthesis eq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209760"/>
                <a:tab algn="l" pos="434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209760"/>
                <a:tab algn="l" pos="434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6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209760"/>
                <a:tab algn="l" pos="434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209760"/>
                <a:tab algn="l" pos="434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tosynthesis combines water, carbon dioxide and sunlight to produce glucose and oxygen, converting light energy into chemical ener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4"/>
          <p:cNvSpPr/>
          <p:nvPr/>
        </p:nvSpPr>
        <p:spPr>
          <a:xfrm flipV="1">
            <a:off x="3733920" y="22860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piration eq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+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ion breaks down glucose and other food molecules in the presence of oxyg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4"/>
          <p:cNvSpPr/>
          <p:nvPr/>
        </p:nvSpPr>
        <p:spPr>
          <a:xfrm flipV="1">
            <a:off x="3352680" y="22860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ergy rene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rgy captured from sunlight by photosynthetic organisms is used and released in the cellular respiration of living thin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energy that living things use, must continually be renewed through photosynthe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7" descr="bd04959_"/>
          <p:cNvPicPr/>
          <p:nvPr/>
        </p:nvPicPr>
        <p:blipFill>
          <a:blip r:embed="rId1"/>
          <a:stretch/>
        </p:blipFill>
        <p:spPr>
          <a:xfrm>
            <a:off x="5106960" y="2209680"/>
            <a:ext cx="31194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ere does photosynthesis occu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plants and other photosynthetic eukaryotes, photosynthesis takes place inside chloroplas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hloroplasts contain saclike membranes called thylakoi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ylakoids are arranged in stacks known as gran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javaphotosynthesisfigure1[1]"/>
          <p:cNvPicPr/>
          <p:nvPr/>
        </p:nvPicPr>
        <p:blipFill>
          <a:blip r:embed="rId1"/>
          <a:stretch/>
        </p:blipFill>
        <p:spPr>
          <a:xfrm>
            <a:off x="5105520" y="1981080"/>
            <a:ext cx="34272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is the visible spectrum of light and why is it important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isible spectrum of light is the set of varying wavelengths of light that are visible to our eyes as different colo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nlight is a mixture of different wavelengths of light, even though it appears a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te ligh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your ey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visible spectr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4" descr="emspectrum[3]"/>
          <p:cNvPicPr/>
          <p:nvPr/>
        </p:nvPicPr>
        <p:blipFill>
          <a:blip r:embed="rId1"/>
          <a:stretch/>
        </p:blipFill>
        <p:spPr>
          <a:xfrm>
            <a:off x="1066680" y="1371600"/>
            <a:ext cx="685656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0:45:23Z</dcterms:created>
  <dc:creator>Karen Smiddy</dc:creator>
  <dc:description/>
  <dc:language>en-US</dc:language>
  <cp:lastModifiedBy>Shelley Hatch</cp:lastModifiedBy>
  <dcterms:modified xsi:type="dcterms:W3CDTF">2012-11-06T04:20:02Z</dcterms:modified>
  <cp:revision>11</cp:revision>
  <dc:subject/>
  <dc:title>Cellular Respiration</dc:title>
</cp:coreProperties>
</file>